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F921-FF46-4D57-B520-91DD95DCC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D4B8-BC6A-4B57-BCA9-D9137E55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9DA1-AE36-4957-B40C-3EC5AB1E5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3478-DECE-4EC7-A7AC-37A2DB735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18F7-40B5-4730-9FB5-75A40C03B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269E-2BA1-47C7-B4F0-25C43382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5D37-605A-4B6D-BCC5-58E5454C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BF1B-8BED-4847-AEE2-5AC866B1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4A8E-625A-42C3-BC72-412AF6FE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A856-B1CB-4E68-8A38-F8ADCCBF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C4F5-CFFC-41B8-9A90-F0652AA6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31E4-9EDD-4448-9A94-98529CC7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2B7B-8CB0-4BE9-BF57-D7769F14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98BB-0745-4C38-8004-DB39A8B2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EE7F-69FE-415A-9732-35368DFB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4F9C-6A4F-4C85-A77F-A4A108CE3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0F25-5452-4890-85EB-80D9BB2EC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98A7-9374-486F-B1E0-2FEB92AB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208B-B9AF-4869-8B15-616C16B9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4056-3DE7-42B0-B140-E90AEE1D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41A3-3494-436A-8B36-C542A580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8E04-D798-4F83-B949-832D4687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71EE-2D24-46FE-A7BB-61DFB2C7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10EA-2F89-4689-9790-2A71F60E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8B58-F757-400F-8C55-F62340CB811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9A90-77A4-4325-9574-86808F23587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19542000"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Impact"/>
              </a:rPr>
              <a:t>Evangelizando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Picture 5" descr="Copy of Chile Union ChM Advisory 133"/>
          <p:cNvPicPr/>
          <p:nvPr/>
        </p:nvPicPr>
        <p:blipFill>
          <a:blip r:embed="rId1"/>
          <a:stretch/>
        </p:blipFill>
        <p:spPr>
          <a:xfrm>
            <a:off x="4716360" y="0"/>
            <a:ext cx="1752840" cy="117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hildren of the world"/>
          <p:cNvPicPr/>
          <p:nvPr/>
        </p:nvPicPr>
        <p:blipFill>
          <a:blip r:embed="rId2"/>
          <a:stretch/>
        </p:blipFill>
        <p:spPr>
          <a:xfrm rot="19542000">
            <a:off x="2000160" y="3259080"/>
            <a:ext cx="5867640" cy="696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FerreyraMe\Documents\diseños PP\LOGOS_ADVENTISTAS\LOGOS_DEPTO\MINISTÉRIO_CRIANÇA\logo_Trab_esp.jpg"/>
          <p:cNvPicPr/>
          <p:nvPr/>
        </p:nvPicPr>
        <p:blipFill>
          <a:blip r:embed="rId3"/>
          <a:stretch/>
        </p:blipFill>
        <p:spPr>
          <a:xfrm>
            <a:off x="34920" y="-27000"/>
            <a:ext cx="4681440" cy="1197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7872840" y="6397560"/>
            <a:ext cx="1221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. Ferreyr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inisterio Personal - D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P-EI 00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25" name="9 - Cooperación.wmv" descr=""/>
          <p:cNvPicPr/>
          <p:nvPr/>
        </p:nvPicPr>
        <p:blipFill>
          <a:blip r:embed="rId3"/>
          <a:stretch/>
        </p:blipFill>
        <p:spPr>
          <a:xfrm>
            <a:off x="1547640" y="90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30" name="10 - Da una Sonrisa.wmv" descr=""/>
          <p:cNvPicPr/>
          <p:nvPr/>
        </p:nvPicPr>
        <p:blipFill>
          <a:blip r:embed="rId3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Requisi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ener un equipo de 2 a 6 personas capacitad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Buscar un loc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lanear, organizar, preparar bien el programa par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cer una buena promoción</a:t>
            </a:r>
            <a:r>
              <a:rPr b="1" lang="es-PE" sz="3200" spc="-1" strike="noStrike">
                <a:solidFill>
                  <a:srgbClr val="0d0d0d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do visualizado o ilustra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articipación plena y continu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mar en cuenta la regla 1 x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Variedad, novedad, agilida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étodo directo e indirecto, cambiar apropiad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Uso de los cinco sentid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7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óngale un nombre 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8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ucha or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9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Escoger el tema central y enfatizar cada día ese te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0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Decidir la extensión del progra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1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ga un programa Cristo céntrico y               Niño céntr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 – La Clave Secreta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 – Temar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Honradez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cortesí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servicio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Abnegación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verdad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Perdón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obedienci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- Carta de Dio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Fin de sema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Este modelo lo puede usar en coordinación con la escuela e invitar a los padres de famil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Historia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Conociendo al Autor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Carta de Dios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Music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scoja un canto y sobre el maneje el temario para la seman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Trabajo en grupos…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Prepare un temario basado en el canto que acaba de escuch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11" name="LA SEMANA.mp3" descr=""/>
          <p:cNvPicPr/>
          <p:nvPr/>
        </p:nvPicPr>
        <p:blipFill>
          <a:blip r:embed="rId3"/>
          <a:stretch/>
        </p:blipFill>
        <p:spPr>
          <a:xfrm>
            <a:off x="4859280" y="234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gozo_culto_joe.mp3" descr=""/>
          <p:cNvPicPr/>
          <p:nvPr/>
        </p:nvPicPr>
        <p:blipFill>
          <a:blip r:embed="rId4"/>
          <a:stretch/>
        </p:blipFill>
        <p:spPr>
          <a:xfrm>
            <a:off x="485928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41015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9515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entro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oe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rquesta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Ri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Jueg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frend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odelito bíbli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nto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redican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Adivinanz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arch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 fuera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salu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limpiez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Visita a un asil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606060"/>
                </a:solidFill>
                <a:latin typeface="Arial"/>
              </a:rPr>
              <a:t>La idea es que los niños participen de cualquier actividad que tenga que ver con la testificación y para que pierdan el miedo a la gente, hacerlos mas sociab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3:46:03Z</dcterms:created>
  <dc:creator>Melchor Ferreyra</dc:creator>
  <dc:description/>
  <dc:language>en-US</dc:language>
  <cp:lastModifiedBy>Melchor Ferreyra</cp:lastModifiedBy>
  <dcterms:modified xsi:type="dcterms:W3CDTF">2012-06-30T02:56:07Z</dcterms:modified>
  <cp:revision>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